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4164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4164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0060284-6B1F-489F-963E-1A905766E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0FB1473-8F9C-43C0-A418-8237AA5351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A59BA65-ED2C-43C8-B121-B32A378D51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666F6E4-12CF-47C5-B276-DB9C5B6E4C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7B52BA7-4F54-40DA-B350-962A2EB269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8EEFB47-FC94-4038-B801-A1BBC4C34F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98BA65D-060D-485F-8C0E-E5C9822F68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9E5BCB3-2CE7-410D-86BB-AB23ADF9EF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52ED3B6-4348-4AE5-A08A-D28E694328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63597BB-0DC7-4A09-BF26-7881ECA818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BD51C30-ED06-4125-9B98-6052699DD2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24455A8-E2AC-40D8-A4D8-912AD94074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B5500CA-32E4-4DB6-AC1E-2CDA31B4D4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94F3A83-5AC1-449B-9089-A9B906BE51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792C5D0-9340-4693-90F0-74C9B522AA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9FE85E6-2249-4306-B9A4-C2FCCAB4BE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FFA5565-FCC8-40EE-965F-C885400485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D90114D-445F-4764-8B6F-FA76EA70C0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49CBCCC-46B6-4BDA-8757-1D9D7D9D15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DA59F0C-1DF7-4E6F-A207-B851832C03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BEFBDD6-1983-40F8-84FC-23C063272C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91D2AF3-07AD-4E9C-BEEE-A99D8E155D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9D2F902-DAF4-46B8-A76F-3204961B08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9631C5D-3539-4E8B-8BB7-57F0B4517E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C4B6-1210-4CD7-8C72-48F57C621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pter Seven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imate Partner Ab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Violence Against Women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are the most frequent victims of intimate partner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woman is victimized by an intimate partner every 1.3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is typical of any woman, but the danger for her is in her own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comes from every walk of life, age, race, ethnicity, and social cl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omen  and Violence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rican American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Indian and Alaska Native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an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casian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panic/Latina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Military and Violence against Wome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1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the civilian spouse of active duty pers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62% of abusers are on active military du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18,000 incidents reported to the Department of Defense’s family advocacy program i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imate violence handled on two separate track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litary justic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mily advocacy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Violence Against Me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2189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 are also victim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gma of being a male and the fear of not being believed are the reasons less likely to report and seek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man is victimized  every 6.7 minutes by an intimate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extent of violence toward men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n do experience significant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ale Victi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factors leading to husband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ective communication between sp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ggle over control and power in the relationship or perception of lesser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sband abuse is evidenced as a form of social dis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ision to injure partner is made with the knowledge that the apprehension or social censure is sl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ocialization factors that make it difficult for men to achieve recove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culine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 intim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xual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and control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lsive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ories of Intimate Partner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le of  Violence Theo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nore Walk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Battered Wo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nsion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I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ute Bat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I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Honeymo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eminist Sociopolitical Theo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imate partner violence considered as endemic to cultures influence by a patriarchal social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s to the social system that recognizes the complete dominance of men over w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iarchy is recognized as the most common and enduring socia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dividual-Based Theor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21896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ribe family violence to psychological problems such as personality disorders, the batterer’s childhood experiences, or biological dis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es in recent years have refuted thesis, less than 10 percent of abusive parents were found to be emotionally maladju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e factor theor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sought to determine the cause of abuse and negl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ocial-Psychological Model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rated theory that brings together three approaches to crime cau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cial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earned through direct instruction, modeling, and reinforc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equal power rel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busive behavior will be tolerated, born through feminist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ersonal choice 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cts out the violence instead of using alternative methods of conflict re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imate partner violence: also called domestic violence, is violence committed by a current or former spouse, opposite-sex cohabiting partner, same-sex cohabiting partner, date, or boyfriend or girlfri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imate partner violence and abuse takes many forms and it is often repea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xual Offens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ital Rape: a prevalent form of sexual abuse – unwanted intercourse, or penetration obtained by force, threat of fo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tates did not consider a crime till 197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3, a crime in all 50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in every seven mar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shment prescribed is often lighter than for other types of r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ate Rap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unwanted intercourse, oral sex, anal sex, or other sexual contact through the use of force or threat of force by casual or intimating dating part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term used to describe, not a specific crime called “date rap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experience among young adult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in five women have experience forced sex in their life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ating Violence Victi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er individuals are at risk for this form of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that occurs in a dating or courtship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sexual assaults, rape, physical assault and battery, and verbal and emotional ab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ing couples more likely to be violent than married cou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rates found among university stud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ange of 1.5 to 20 percent of students reported inflicting injury on partn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actors Contributing to Assaulting Partner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120" y="1523520"/>
            <a:ext cx="409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er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social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lict with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inal hist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857480" y="1523520"/>
            <a:ext cx="409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alo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attributions about the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lect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xual abuse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fu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appr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y Do Intimate Partner Violence Victims Stay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ct is women do leave their ab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, women leave and return to an abusive partner five times before permanently leaving th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staying are co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ed women experience shame, embarrassment, isol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many reasons why a victim may not le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r, lack of support, difficulties of single parenting, reduced financial circumstances, lacking a safety plan, isolation, rationalization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fferent Forms of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828800"/>
            <a:ext cx="834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ual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abuse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hysical Abuse: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rs may inclu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ch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v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pp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ck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weapon against a partn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ing item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ling hair, and restraining part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xual Abus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ual violence ma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ing a partner to perform sexual ac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ing the partner that she asked for the abuse, (in sadomasochism)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motional and Psychological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al abuse such as calling of nam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iz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ing mind gam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iliating the partner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ing internalized homopho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conomic Abus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control creates financial dependency.  It ma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ing the partner from getting a job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the partner fired from a job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the partner ask for money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the money that he or she has 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Battered Women’s Movemen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21896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victories accomp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tims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ened victim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ention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ion and 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terer’s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wareness of violence against lesbian and gay partners and m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in dating relation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ealth and Safety Issu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less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jury and Tra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of Lif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line and she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5:12:36Z</dcterms:modified>
  <cp:revision>6</cp:revision>
  <dc:subject/>
  <dc:title>Slide 1</dc:title>
</cp:coreProperties>
</file>